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B34-7DCB-4E60-9D37-8F6D5C3F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ED0-1052-450D-839E-802A6816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5D6-6967-4C5D-AF3C-8258D313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D72-1E16-4BB1-934E-D6D6A4FD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8F1-A9CD-47BF-AF40-3B7CA636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E66-265E-47E8-BEB1-23F67F61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3B0-7ABC-400E-8C4F-9BB72E32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99A-C3DE-4F1A-8587-7173087E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9B3B-35BA-4452-89E7-5D3973F7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502-8262-4700-A60E-9D0DAB6E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64BA-EED6-4198-ADD1-4B3F3DB7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2D5-26EA-433C-B8B5-21B61A72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F475-C951-48A6-A261-F3E7D9B00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"/>
              </a:rPr>
              <a:t>SPOTKANIE  NA  OLIM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gowie i boginie starożytnych Greków i Rzym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tej świętej gór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nalazło swoje miejs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wunastu bogó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dfd293"/>
                </a:solidFill>
                <a:latin typeface="Arial"/>
              </a:rPr>
              <a:t>Hera (Junon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59280" y="134136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ostra i żona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gini małżeństw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macierzyńst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19308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4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frodyta (Wenu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gini namiętn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łosn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96000" y="549360"/>
            <a:ext cx="2279520" cy="583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rot="18571200">
            <a:off x="1836000" y="4075560"/>
            <a:ext cx="15508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dfd293"/>
                </a:solidFill>
                <a:latin typeface="Arial"/>
              </a:rPr>
              <a:t>Demeter     </a:t>
            </a:r>
            <a:br>
              <a:rPr sz="4000"/>
            </a:br>
            <a:r>
              <a:rPr b="0" lang="pl-PL" sz="4000" spc="-1" strike="noStrike">
                <a:solidFill>
                  <a:srgbClr val="dfd293"/>
                </a:solidFill>
                <a:latin typeface="Arial"/>
              </a:rPr>
              <a:t>(Ce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92360" y="162864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gini plon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płodn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58800" y="620640"/>
            <a:ext cx="5000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osejdon (Neptu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338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ładca mór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żywiołu wodn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140360" y="1413000"/>
            <a:ext cx="37224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 jest żywotnym składniki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wilizacji ludzkiej, pragmatyczn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kumentem pierwotnej wiary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mądrości moraln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zygotował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Maria Gr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Zaiste najpierw Chaos powsta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1508040"/>
            <a:ext cx="684216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e3ebf1"/>
                </a:solidFill>
                <a:latin typeface="Arial"/>
              </a:rPr>
              <a:t>Potem Gaja</a:t>
            </a:r>
            <a:br>
              <a:rPr sz="4000"/>
            </a:br>
            <a:r>
              <a:rPr b="1" lang="pl-PL" sz="4000" spc="-1" strike="noStrike">
                <a:solidFill>
                  <a:srgbClr val="e3ebf1"/>
                </a:solidFill>
                <a:latin typeface="Arial"/>
              </a:rPr>
              <a:t>rozłożysta, bezpieczna podstawa dla wszystkich nieśmiertel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52563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4521240" cy="5040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I mglisty Tar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głęb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 rozległ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iemią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I Eros,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najpiękniejszy z nieśmiertelnych bog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73440" y="1989000"/>
            <a:ext cx="4483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4000" y="1488960"/>
            <a:ext cx="8532000" cy="4170960"/>
            <a:chOff x="324000" y="1488960"/>
            <a:chExt cx="8532000" cy="4170960"/>
          </a:xfrm>
        </p:grpSpPr>
        <p:cxnSp>
          <p:nvCxnSpPr>
            <p:cNvPr id="65" name="_s34835"/>
            <p:cNvCxnSpPr>
              <a:stCxn id="66" idx="0"/>
              <a:endCxn id="67" idx="2"/>
            </p:cNvCxnSpPr>
            <p:nvPr/>
          </p:nvCxnSpPr>
          <p:spPr>
            <a:xfrm flipV="1" rot="16200000">
              <a:off x="5077080" y="3611160"/>
              <a:ext cx="522000" cy="1490760"/>
            </a:xfrm>
            <a:prstGeom prst="bentConnector3">
              <a:avLst>
                <a:gd name="adj1" fmla="val 36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" name="_s34833"/>
            <p:cNvCxnSpPr>
              <a:stCxn id="69" idx="0"/>
              <a:endCxn id="67" idx="2"/>
            </p:cNvCxnSpPr>
            <p:nvPr/>
          </p:nvCxnSpPr>
          <p:spPr>
            <a:xfrm flipH="1" flipV="1" rot="5400000">
              <a:off x="3584160" y="3608280"/>
              <a:ext cx="522000" cy="1496880"/>
            </a:xfrm>
            <a:prstGeom prst="bentConnector3">
              <a:avLst>
                <a:gd name="adj1" fmla="val 36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" name="_s34831"/>
            <p:cNvCxnSpPr>
              <a:stCxn id="71" idx="0"/>
              <a:endCxn id="72" idx="2"/>
            </p:cNvCxnSpPr>
            <p:nvPr/>
          </p:nvCxnSpPr>
          <p:spPr>
            <a:xfrm flipV="1" rot="16200000">
              <a:off x="5821920" y="1298880"/>
              <a:ext cx="522000" cy="2986920"/>
            </a:xfrm>
            <a:prstGeom prst="bentConnector3">
              <a:avLst>
                <a:gd name="adj1" fmla="val 363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" name="_s34830"/>
            <p:cNvCxnSpPr>
              <a:stCxn id="67" idx="0"/>
              <a:endCxn id="72" idx="2"/>
            </p:cNvCxnSpPr>
            <p:nvPr/>
          </p:nvCxnSpPr>
          <p:spPr>
            <a:xfrm flipV="1" rot="16200000">
              <a:off x="4330440" y="2790360"/>
              <a:ext cx="522000" cy="3960"/>
            </a:xfrm>
            <a:prstGeom prst="bentConnector3">
              <a:avLst>
                <a:gd name="adj1" fmla="val 363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" name="_s34829"/>
            <p:cNvCxnSpPr>
              <a:stCxn id="75" idx="0"/>
              <a:endCxn id="72" idx="2"/>
            </p:cNvCxnSpPr>
            <p:nvPr/>
          </p:nvCxnSpPr>
          <p:spPr>
            <a:xfrm flipH="1" flipV="1" rot="5400000">
              <a:off x="2835720" y="1298880"/>
              <a:ext cx="522000" cy="2986920"/>
            </a:xfrm>
            <a:prstGeom prst="bentConnector3">
              <a:avLst>
                <a:gd name="adj1" fmla="val 363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2" name="_s34825"/>
            <p:cNvSpPr/>
            <p:nvPr/>
          </p:nvSpPr>
          <p:spPr>
            <a:xfrm>
              <a:off x="1725120" y="1488960"/>
              <a:ext cx="5730120" cy="104256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8760" bIns="68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Gaja-Ziemia i Uranos-Nieb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4826"/>
            <p:cNvSpPr/>
            <p:nvPr/>
          </p:nvSpPr>
          <p:spPr>
            <a:xfrm>
              <a:off x="324000" y="3053160"/>
              <a:ext cx="2559600" cy="104256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8760" bIns="68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yklop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4827"/>
            <p:cNvSpPr/>
            <p:nvPr/>
          </p:nvSpPr>
          <p:spPr>
            <a:xfrm>
              <a:off x="3310200" y="3053160"/>
              <a:ext cx="2559600" cy="104256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8760" bIns="68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yta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4828"/>
            <p:cNvSpPr/>
            <p:nvPr/>
          </p:nvSpPr>
          <p:spPr>
            <a:xfrm>
              <a:off x="6296400" y="3053160"/>
              <a:ext cx="2559600" cy="104256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8760" bIns="68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Sturę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4832"/>
            <p:cNvSpPr/>
            <p:nvPr/>
          </p:nvSpPr>
          <p:spPr>
            <a:xfrm>
              <a:off x="1817280" y="4617360"/>
              <a:ext cx="2559600" cy="104256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8760" bIns="68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Kron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4834"/>
            <p:cNvSpPr/>
            <p:nvPr/>
          </p:nvSpPr>
          <p:spPr>
            <a:xfrm>
              <a:off x="4803840" y="4617360"/>
              <a:ext cx="2559600" cy="104256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8760" bIns="68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Re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Po  stoczeniu krwawych walk</a:t>
            </a:r>
            <a:br>
              <a:rPr sz="3200"/>
            </a:b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z Tytanami i Gigantami</a:t>
            </a:r>
            <a:br>
              <a:rPr sz="3200"/>
            </a:b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tron zagarnął jeden z synów Kronosa</a:t>
            </a: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 –</a:t>
            </a:r>
            <a:br>
              <a:rPr sz="3200"/>
            </a:b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Zeus</a:t>
            </a: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Ojciec bogów i lud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 chwili objęcia wład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zez Zeusa ustalił się skł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ckiego Olim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1:54:13Z</dcterms:created>
  <dc:creator>Administrator</dc:creator>
  <dc:description/>
  <dc:language>en-US</dc:language>
  <cp:lastModifiedBy>Administrator</cp:lastModifiedBy>
  <dcterms:modified xsi:type="dcterms:W3CDTF">2003-11-14T12:30:37Z</dcterms:modified>
  <cp:revision>23</cp:revision>
  <dc:subject/>
  <dc:title>Slajd 1</dc:title>
</cp:coreProperties>
</file>